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0B1-DF02-4500-B376-D9190F4646F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FA6-774F-4704-9BB0-878BB7FA766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15F-BD5F-4595-8BCE-36ECA2D970F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679-30DB-4A36-8C46-7224F1C703C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CFC-C4D4-45D8-89DC-0B83ACB1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EE9-8B88-4409-9328-4D63B5D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5A5-A10B-4BD3-92FE-B425D45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686-F46B-446D-AF0F-0CFAC55E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C62-B77F-4452-9F03-054382D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78A-191A-43B6-A8FD-9CEB01AB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FB5-999D-4A20-91FC-F3124C3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40B-CB1F-4C24-B093-127923C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EA8-3D09-4146-8FAA-57DFC13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1C3-E477-41DD-8648-23B386F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28B-D848-47DD-B227-70C2A9CB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4E3-35CE-4A53-BE61-B38A3FA5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0012-982B-44C9-A260-1C0CB5BC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CC9A-10DA-4587-9A14-B3E3E141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2DB-7200-426E-8950-11B51FE5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3F37-02B7-48AF-A01F-130F112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1895-E72C-4295-94D3-CD48F5B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8F4-E1D3-4ADB-93FD-43D54B8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A7C-44D1-411D-8C7E-0ACA5BB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27DC-CF96-4507-90AA-BC701AF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167-69F8-4EC3-88E9-2D6C256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170-CDB9-4E4F-BFF3-1CD45CA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DAE-DC23-4034-8361-12702768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BBA0-0DE5-482B-B620-69DDB9C5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4" descr=""/>
          <p:cNvPicPr/>
          <p:nvPr/>
        </p:nvPicPr>
        <p:blipFill>
          <a:blip r:embed="rId2"/>
          <a:stretch/>
        </p:blipFill>
        <p:spPr>
          <a:xfrm>
            <a:off x="-6480" y="0"/>
            <a:ext cx="915048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C77-31A1-4F42-BE66-4C382F84E66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6B1-D804-4FDD-A9F5-AD2BB586947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n 2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7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n 2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143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7120" y="2584440"/>
            <a:ext cx="788652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2280" y="1136520"/>
            <a:ext cx="829296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2280" y="1900080"/>
            <a:ext cx="8292960" cy="29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6:08:45Z</dcterms:modified>
  <cp:revision>33</cp:revision>
  <dc:subject/>
  <dc:title>Presentación de PowerPoint</dc:title>
</cp:coreProperties>
</file>