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C9A5-71EE-4E7A-90FD-693F354BDF9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E87E-81E0-4FCE-A197-65B3BF89E93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B0DE-A468-4F38-AABC-5BA6AC4469C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A91B-9515-4D2E-B4FA-E5F06DC7FD9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3FFA-CB99-4C17-A7BD-0AD14E1D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1C6D-4BDC-41FF-94BE-9D6D43A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B69F0-CC4A-49ED-AFA7-7CD691F2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1413-03EC-4FBF-B10D-F403948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3093C-12BC-4E6A-A6EA-70D3024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C805-47F3-4033-89F9-B5EE859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6842-D8C9-46EB-B316-53B1B128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47C0-14B1-4BB0-9E43-B2D9B201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0820-64F1-4430-A7E9-70F59C67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C28D-43BE-46A6-AE2C-1DA3689F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F9CF-94FF-4AAF-A65A-41899BBE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3E82-AA8A-4904-ACEC-A86FA08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4097B-0270-440B-8BC7-39AF99E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6E4DB-B8AD-4A75-8C2F-43A02E02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B2A5-0017-47DF-A346-27A22004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E8CCD-1D8D-411E-9756-3041B7A9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821E-03B0-481D-85A9-114AA0D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E3D8C-AC75-4DCD-99C3-A9FE609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82D6-ABF9-4B17-A06A-9AEEC283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AF22-6465-473D-89A7-5DC19E21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19FC-2295-48AE-A2D9-2B27C7F1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776B4-45EA-433E-93A1-112C8D8F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A0692-82A9-48EA-BC98-1C4CE9D1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4284A-A580-440C-BD5B-00E8B18C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A65E-7298-4BB3-8446-881BAAB9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D86F-59A6-4A02-8041-544BD212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BEF8B-52E4-45FE-BC3D-126C8022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5B00-DF52-43A6-BB50-6937310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016F-A55A-402C-A0A3-B7DFF15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0313-23DD-4726-87A9-300F85A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7CC-13E1-432E-B709-20C85C0C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CA0D-B995-40E0-959F-0F10DEA0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9226-4D55-4884-A254-1F0D7ABD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27DD4-7E38-4BBF-9A10-526E53CF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D015-C3DA-4D7C-8049-97365D27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B8E2-6349-4A17-8E27-F767EC5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4705-DAB4-4925-9C4F-80346E6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AA64-CCC3-42F2-9C8F-63C9251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71F50-54EB-4BCF-85E7-6AF85163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D39B-5417-4FB4-BA16-5E89D2AB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C07E-2397-4933-A905-E17F96E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95A-8F7C-427A-9FEA-D842DE5B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3B00-1FC5-403F-A675-FB57C2A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EF18-BA81-4715-806A-0A6FBAE2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4A60-7DE3-4D3C-B1ED-00D6AA6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29457-57EB-436D-8488-AE045A63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1BC3-E3B7-46DC-955A-22BE344E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167C5-D8C6-4570-9E80-49177036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BF97-6D3F-4058-B62F-8E4AED7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AA0EE-4129-4D0B-8685-C26FBB89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1445C-D846-42A3-8624-F3930347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4D81E-EB85-4E1D-B4B1-13B5BCFF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CDE-4C4A-4B03-B5DE-13F1DE60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C7503-A1AB-445A-BB74-1DE33C99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9360A-B252-4475-AC7E-8112DA1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63E4-E304-4152-94B7-F8E9974D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CB9EC-BAFC-4C87-93ED-1F8CAD6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8F629-7244-40D8-B2D8-53A813C4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4C150-916E-406D-A0A4-930ECDE2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0F615-90DF-4451-A4EA-D08230D0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90F30-6B09-4C6C-A1C0-938673CC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0326A-D3DB-4ED2-968A-F619DBD7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117D7-3B6F-4761-99B6-74DC85F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47E-FA8B-40E7-AB4A-B500C8E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ED8CF-A7E6-44CB-B7ED-72C8568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6DFF1-84CB-4C2D-BBD6-4694ABE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82609-0764-44C1-8210-59DEC113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C7372-F45C-4ACD-9DB5-B67D3E78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704D4-1972-456C-BD55-25BE670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48E07-7CDD-4AC0-9E44-324CFD8A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5CDDC-ACF0-4BD0-8C3D-214387B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E4E4A-6467-489D-B1C6-0C798412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A3426-4C9D-49CC-BED3-6EEFB7CE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EEE53-CFEC-42C7-A52E-29E739A8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658-5779-415D-87E0-00B449E6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143C8-63F0-447A-8261-3A13AD9A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A819-FEAD-49DA-A0C0-9CA33EA8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779A9-82EB-4CE7-A59C-520D72AD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C3BF3-14C6-4793-9F96-DD81DE1C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17174-FC3F-4B0D-9550-4E61A864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A606E-94A2-4195-BFE3-B115C24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C825C-0FF3-4FC2-A4C9-1236A99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CB44B-ACEE-4824-BA87-3D044CC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4E091-EC3B-4378-81BC-C3D3138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AA75B-0323-4848-890F-F3F73E8B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554-0BB7-4E64-BB15-5BB14D64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41DD1-9357-4CD6-B6AF-F2DA11BA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E73FD-C7E3-4B51-97BE-D9FBB0AE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987DB-764C-4BBC-9CA1-E8B3CEC4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52F68-7057-4284-95CA-AD4613E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26AE4-4466-4268-81ED-D7ED009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D01A1-2EDE-441F-A3D4-6F7271F3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63EEF-40C7-40CA-B513-B20247E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386A2-4FBC-4F4A-9A50-849E97C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084EB-3128-4338-990D-8C0CEF3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6D0C0-DB3C-42E6-9838-4DB6F9D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CC4-09F8-4555-952A-E47EB25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05499-019C-42B9-B01A-FB526ED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6E4E2-A002-4F83-97D8-29EBAE0C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0B44F-5348-4775-ABA1-251FCB6A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EAA10-D7F0-4AE5-9596-CB02D6B2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A788F-D73C-451B-8E6A-62620AC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1736D-4026-4F87-8670-5F95643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3759C-FC47-4E3E-B859-BE047DE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60DFD-3222-4377-86D0-2159AF5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8E985-D507-445D-9F43-F255CE59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755F9-6A18-4442-A36E-3B90DD3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80B-060A-4679-A569-EF31ABB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5BF85-E912-4C4B-8C77-DDA43D5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BD3B9-22FE-4F54-B682-2E4EDD6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BA419-EBFD-439A-A26C-3FE283A0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78C7B-C014-4CC4-9A40-C80DCBB4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F48B0-6784-479D-B1FD-F00AAA5E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95403-31C1-4A3D-BDA2-1ABD1E9E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71CBC-EF56-4791-9A19-A423936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CB24F-3583-422B-849F-9B595355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58C2C-7ED2-4C4C-8CCE-09824FB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0DD51-F11B-4FC6-AEF2-E5F72DD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FB2-5285-4AFE-A179-F5174E1C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C691D-9109-4663-AC14-30170CCE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58C76-3CFD-4E33-A96B-D2B35E19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B80FD-F246-4CC3-8384-F5562BA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52DC0-326D-432C-8CEB-CA68C43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FAB79-49C6-4F2D-8DE2-E946212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9520F-9E34-41C2-916B-96C6EA66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212CF-BF33-4C19-A3DC-EF52A2E5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6E3-30A0-4ABA-83E4-CB8D321E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FBA-DB74-4F70-9A7D-E850F929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B30-9C0A-464A-950C-87E42910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50B-1AB8-41AA-ADF7-DA0AFF40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8CDD-D391-4D37-9DDA-FC781DD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F73-7C7B-4609-A326-04EA5B68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509C-8A64-48C3-BEC1-C5FA4AB6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E395-D3ED-462F-987E-8E2F5240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995D-8732-41BE-953C-16F872CB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9272-5D4B-4347-AEF9-54FC6AF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586D-61BD-4E4C-B22F-AEB83489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DB35-2F21-4A28-AFF7-DBFAA5D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827-1DD8-4B44-9296-3623F98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E41E-1E56-4A3A-A71C-FE641DA5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006-867F-4767-AFFA-E6BB5439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1F51-C10A-46F7-85CF-50633BDA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AD9E-572B-47CE-BCC8-2D7FE92E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2C26-F0C1-4F47-9B05-4645B838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2EEA-4E0D-4F09-B853-A7EE8699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D8E3-42F8-41F4-B221-C1D4E79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211A-0D08-4D65-9DDD-E29F02E1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000B-C433-4402-9833-AB0AD448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BCB1-D0CA-453D-AF4C-D880CAE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99D1-89D5-4A22-B8E6-E30D097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A81B-C782-4899-95EF-C07A0F1F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37B5-34B9-4F54-ABB7-88BDD5C9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667F-5D77-4112-8F47-209E42F4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05BB-8D09-47A6-8AE7-F125E786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9EF5-BE7E-450C-B52B-C58AB57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9E08-218A-49C2-B0F0-6576DD5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2AA5-8938-43D0-BA05-8DB43DC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BFB9-5B24-4734-AE8C-2FCE4B1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D29E-398E-4A48-AAE4-FBC096C5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776F-A021-4712-8F14-352E08A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7B62-A973-4119-8DC2-989DED63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1A65-662B-486B-9291-7B974B1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38C7-C326-410E-AC1F-64A3A6A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D695-A332-4F4C-BDE6-8E4D8883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7082-AED1-415B-B6EA-44590875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7E96-40CE-49C2-9D18-7C7AEB25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D9CB-0244-4F3D-B154-E06B2C6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3A68-1265-48EE-8CC0-CE65EE0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93D7-9652-45D7-8A7D-A592C4C60695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7D87-CFDC-4FEB-B4ED-026940A6F65D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108-20A2-4EB9-8296-766305BC4AC5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1749-99D7-4B1C-8BC8-14461B93FF80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31A2-C3BC-47D0-A66A-BCF59F186A7B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5FE9-7409-4E20-956C-EBF5F1FFD752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FDC9-9DD3-4D0F-8263-10707FA75592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C323-0163-4189-9B94-E5AB527CC8C6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404E-EC46-424D-B186-05D471200DE1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AB8-A53C-4DAC-919A-3ADE426D8F2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41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79" name="Imagen 10" descr=""/>
          <p:cNvPicPr/>
          <p:nvPr/>
        </p:nvPicPr>
        <p:blipFill>
          <a:blip r:embed="rId3"/>
          <a:stretch/>
        </p:blipFill>
        <p:spPr>
          <a:xfrm>
            <a:off x="7908840" y="4137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6 CuadroTexto"/>
          <p:cNvSpPr/>
          <p:nvPr/>
        </p:nvSpPr>
        <p:spPr>
          <a:xfrm>
            <a:off x="255600" y="4656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Ca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Toesca 1783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| Mesa Central: 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2 2582 6000</a:t>
            </a:r>
            <a:br>
              <a:rPr sz="800"/>
            </a:b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La Serena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Av. Francisco de Aguirre 0405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Medium"/>
              </a:rPr>
              <a:t> | Mesa Centra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  <a:ea typeface="Gotham Book"/>
              </a:rPr>
              <a:t>: 51 247 91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1ED-2D05-4BD2-998A-922D4C46E25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n 7" descr=""/>
          <p:cNvPicPr/>
          <p:nvPr/>
        </p:nvPicPr>
        <p:blipFill>
          <a:blip r:embed="rId2"/>
          <a:stretch/>
        </p:blipFill>
        <p:spPr>
          <a:xfrm>
            <a:off x="-15840" y="-360360"/>
            <a:ext cx="9177480" cy="55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5636DEA-2231-4B7B-9F01-E4596CC7033D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44000" cy="390240"/>
          </a:xfrm>
          <a:prstGeom prst="rect">
            <a:avLst/>
          </a:prstGeom>
          <a:ln w="0">
            <a:noFill/>
          </a:ln>
        </p:spPr>
      </p:pic>
      <p:pic>
        <p:nvPicPr>
          <p:cNvPr id="199" name="Imagen 10" descr=""/>
          <p:cNvPicPr/>
          <p:nvPr/>
        </p:nvPicPr>
        <p:blipFill>
          <a:blip r:embed="rId3"/>
          <a:stretch/>
        </p:blipFill>
        <p:spPr>
          <a:xfrm>
            <a:off x="7908840" y="150840"/>
            <a:ext cx="97164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Imagen 7" descr=""/>
          <p:cNvPicPr/>
          <p:nvPr/>
        </p:nvPicPr>
        <p:blipFill>
          <a:blip r:embed="rId2"/>
          <a:stretch/>
        </p:blipFill>
        <p:spPr>
          <a:xfrm>
            <a:off x="-15840" y="-360360"/>
            <a:ext cx="9177480" cy="55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AF58-586D-42F6-AA67-E62450FCFCFD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AFE-4D6F-4A67-9837-E4C959013952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96600" y="4358880"/>
            <a:ext cx="788652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000" spc="-1" strike="noStrike">
              <a:solidFill>
                <a:srgbClr val="000000"/>
              </a:solidFill>
              <a:latin typeface="Gotham Medium"/>
              <a:ea typeface="Gotham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2280" y="644040"/>
            <a:ext cx="82929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22280" y="1215720"/>
            <a:ext cx="829296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Imagen 1" descr=""/>
          <p:cNvPicPr/>
          <p:nvPr/>
        </p:nvPicPr>
        <p:blipFill>
          <a:blip r:embed="rId1"/>
          <a:stretch/>
        </p:blipFill>
        <p:spPr>
          <a:xfrm>
            <a:off x="-20520" y="-351000"/>
            <a:ext cx="9163080" cy="54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6:10:00Z</dcterms:modified>
  <cp:revision>28</cp:revision>
  <dc:subject/>
  <dc:title>Presentación de PowerPoint</dc:title>
</cp:coreProperties>
</file>