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0EAE-68AE-441C-BE09-D1A280C78A1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35F2-FD8C-4564-BD7B-B6FAF16752B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737B-7E13-4B48-97C1-C8C25A13A82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C43-7117-43F7-A168-C654A2F3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398-D532-4CC5-A9EB-EC996F9A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CA7-BD0B-407C-A1CB-E8261F42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C07-F1A2-4C81-B8C9-3767A5F2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A86-53D0-4EA9-BCFC-5C50D6F5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1C2-4047-462B-845A-9CBAE310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4C7-894D-41D2-AC4C-9E2FBBF5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6B9-91E3-4EE7-A985-87DC013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719-95DB-45B7-80D5-76EA175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B10-D038-4AD8-A06D-D56841D7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687-A69E-4D7F-A7FA-B3707A74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4D9-9C75-46F3-84CE-F198451A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D6BD-1516-43AA-BF37-2BE7C444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D90B-3E72-4E4B-AEE2-9E784344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16CB-9697-4820-A613-A2E659D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DD22-2CE0-474C-BBFE-B8560A8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E9B9-C754-4C38-BA77-1C3CD868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0177-BB41-4263-9D5A-022EF525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8F91-963C-42C4-869F-E910CBD8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FB39-8836-43EF-821C-EAAF4FF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6735-B8B4-492F-BB0A-2961B42D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540A-F772-4C49-B1A1-F0107DDE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AFCA-4824-45BE-89F9-FDA96912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91CB-BEA5-49A5-BAEF-EBF0E7C4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4240" cy="55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9764-B8FC-4ACA-9BC0-570ED7A9E9D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44000" cy="390240"/>
          </a:xfrm>
          <a:prstGeom prst="rect">
            <a:avLst/>
          </a:prstGeom>
          <a:ln w="0">
            <a:noFill/>
          </a:ln>
        </p:spPr>
      </p:pic>
      <p:pic>
        <p:nvPicPr>
          <p:cNvPr id="41" name="Imagen 10" descr=""/>
          <p:cNvPicPr/>
          <p:nvPr/>
        </p:nvPicPr>
        <p:blipFill>
          <a:blip r:embed="rId3"/>
          <a:stretch/>
        </p:blipFill>
        <p:spPr>
          <a:xfrm>
            <a:off x="7908840" y="150840"/>
            <a:ext cx="97164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79" name="Imagen 10" descr=""/>
          <p:cNvPicPr/>
          <p:nvPr/>
        </p:nvPicPr>
        <p:blipFill>
          <a:blip r:embed="rId3"/>
          <a:stretch/>
        </p:blipFill>
        <p:spPr>
          <a:xfrm>
            <a:off x="7908840" y="413712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80" name="6 CuadroTexto"/>
          <p:cNvSpPr/>
          <p:nvPr/>
        </p:nvSpPr>
        <p:spPr>
          <a:xfrm>
            <a:off x="255600" y="4656240"/>
            <a:ext cx="50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Casa Centra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Toesca 1783 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| Mesa Central: 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2 2582 6000</a:t>
            </a:r>
            <a:br>
              <a:rPr sz="800"/>
            </a:b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La Serena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Av. Francisco de Aguirre 0405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 | Mesa Centra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51 247 91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6067-7183-49C9-9A0A-267471551CD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n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1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44000" cy="390240"/>
          </a:xfrm>
          <a:prstGeom prst="rect">
            <a:avLst/>
          </a:prstGeom>
          <a:ln w="0">
            <a:noFill/>
          </a:ln>
        </p:spPr>
      </p:pic>
      <p:pic>
        <p:nvPicPr>
          <p:cNvPr id="160" name="Imagen 10" descr=""/>
          <p:cNvPicPr/>
          <p:nvPr/>
        </p:nvPicPr>
        <p:blipFill>
          <a:blip r:embed="rId3"/>
          <a:stretch/>
        </p:blipFill>
        <p:spPr>
          <a:xfrm>
            <a:off x="7908840" y="150840"/>
            <a:ext cx="97164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n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1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96600" y="4358880"/>
            <a:ext cx="78865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960" y="595080"/>
            <a:ext cx="831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9960" y="1250640"/>
            <a:ext cx="83152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2280" y="644040"/>
            <a:ext cx="829296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2280" y="1215720"/>
            <a:ext cx="829296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4:35:21Z</dcterms:created>
  <dc:creator>Usuario de Microsoft Office</dc:creator>
  <dc:description/>
  <dc:language>en-US</dc:language>
  <cp:lastModifiedBy>Patricia Barrios Molina</cp:lastModifiedBy>
  <dcterms:modified xsi:type="dcterms:W3CDTF">2025-03-28T18:57:46Z</dcterms:modified>
  <cp:revision>35</cp:revision>
  <dc:subject/>
  <dc:title>Presentación de PowerPoint</dc:title>
</cp:coreProperties>
</file>