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58DC-E3BA-4A7D-B390-D7EF8F703BE3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F850-153A-4A40-A144-CF8EC8ADC6E8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5018-16F0-499A-B506-655BE653FC13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62C9-242E-4098-974E-BA84DD1D1A8D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5EAE4-E465-4341-B3E1-5CB8EB24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63AE2-5488-4913-821A-64CA1118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3C797-3EA2-48DD-AC35-6F3941EA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788B9-E861-4B40-8C6D-91A6DE20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03301-0DDD-4DDB-9F7E-9E22872D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AA217-F73D-4CBC-AE41-7A52B078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58C78-422C-4BAE-8BFE-B977823F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DADF8-614C-476E-ACE0-FAB6F4E5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AA3E9-B4DC-4420-9C5E-D635C8D4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F0274-68E4-4A30-B41F-80797F78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B681F-2DAA-4370-A24F-80B9178C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91661-B52A-4385-9E9C-D9BBF092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2318B-1D9C-4E60-9D2A-A436A29A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94C27-38EB-4FE6-9C88-7C05A69E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25704-3F85-4DA7-AA3D-5C3EBAB6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5EF2C-D5AC-46C3-A320-7F10A8B3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0B43E-9809-4D5E-8DC8-0D900645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2D685-B22C-4CCD-B469-6F54B331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8055B-4249-41A0-9860-05AE2B73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9223F-06ED-4E1B-952B-4A295304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4388B-8F07-4BF7-888F-1023B43E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8FAE8-1729-4201-94EC-3D936A63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8B00C-87E5-47BC-B279-F4071688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C8824-5C0E-48A1-823E-68CE85BA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0E4C3-8236-4CAD-B787-6F60EA5E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1EF51-5322-4E5E-91BA-B551B09B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59BA0-C0C4-4A54-8B63-9DDD10FC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86147-BB1E-4DEC-9BF6-12D4EF9C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FAC16-A71D-476B-B54A-0D5093AD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DE458-0EE5-4468-B3AE-B20636DF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CE86-15DF-4AAC-8C9D-E1274CB8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DEC62-F49D-4301-BF83-16F92AA3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614F3-A5CC-4175-8106-C8A5A0D34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3A567-F23A-4112-A2BA-BA717AB6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770BF-F641-468C-AF07-FADD128D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F97D4-2C21-4613-8082-7320DE59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2AA20-0458-4C9C-8C0C-A2C2EAE9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056D5-7AFD-4AA8-BC2F-FE70E910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51AAD-8D8A-49B4-A37C-35919E32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F649C-4E8D-41D7-8277-89D9ECE7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21DD2-449A-4C9B-9D3E-74087545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18C4-CEE8-4663-9042-11918A5F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F4514-F5B2-413E-A1DD-A4DB267B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95DF9-4885-4ACA-9AED-0D9166E4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CC5D3-388F-413A-BCA4-CAFB1BE4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F35A3-1EBC-462C-B795-C984563E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34462-3F02-438C-97EF-32066D6A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37729-2928-4315-9FD8-9B080714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AC3AB-2B25-41AA-A761-7B2B2DB4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BD261-2B4E-45C2-9F26-282A9031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30F9A-2073-4F83-8DE5-CC6C0112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DAA3A-242E-4289-BC75-5779150B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B277-91D8-468C-B6D7-F32F3F9E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2D24F-FB27-45D6-892E-4D18DDA1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EC9C0-481E-445A-AEC7-DD4CEEB9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2F52F-4D92-470D-AFC0-AA978B64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23509-EB6E-417F-9693-0825AA33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6DB25-D3D5-4EF5-B261-707ECA36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BEA5D-C90F-4CF0-8FA2-3A7D475B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85C02-96E8-4016-AA83-B8D7F2A1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7A221-BB8B-4797-83CD-94A1E3C0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4D3EB-DCD9-4D1E-A888-DDD6524D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0E4C4-DAEA-461F-B4C4-E2D0AA6E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DD25-3189-4508-BAA6-5CA67C6A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6136E-7CA1-4D09-AC99-9595C256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09EA0-002F-41A2-9218-D91DFC16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3E6AB-DBF7-4D89-8CE9-D8A84696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07967-129C-4ED2-AEC3-633CECD7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6D1AA-4E04-4B30-964E-C28895D6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30EDD-1019-41F2-8199-FAF3A23C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A9BA9-4C1C-4C0F-A56A-85C0D48E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2F627-5C84-4389-8831-0E9F33A4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C8063-AAEE-4E15-A234-F577AC2B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6007E-2EBB-4815-BA55-DACAC268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2A7B-0123-42B3-B344-3B577BE5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B6A77-C4F7-4DB5-A510-6F14C85D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B64AF-A3A4-4F6F-99BA-7633F4E4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4D62D-E5F3-45AE-A7FB-C36AAFF9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C056D-1C74-45CA-86F4-EC0FB648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69CB4-844B-464A-8D57-FA3C6835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EC825-6430-4DCE-9A76-B78BC614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DE407-4581-49EC-9BD6-075A58BE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F5582-E88D-4360-A1E3-3D156DF6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9FF28-DA2D-4750-B8F6-C83ACC7F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50602-1DDC-45DF-BE77-DC4F67B5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1890-B474-40FA-AC3A-6C1C9099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8ABF0-A542-45A0-A0AE-65054DAD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E193D-E775-4678-971B-7B313238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5236A-CF04-462A-90C1-921D03BC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EE011-72D5-43CE-9E57-AB4528C2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0AE6E-97E1-4B6A-85B8-850F55E4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F7DCF-1198-4371-AA83-E8392014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7A2AD-0036-4B32-97B3-43A5C908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EDC4C-C7AD-4AAE-92F9-D7E46FA0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082B6-BF5D-4455-8E7A-1E47D4B1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F9E093-3A5C-455F-9135-177B9563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BDC5-4359-496B-9CA6-2DFE67A0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5119C-1330-4CD5-96BF-1C20A09B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3466F-71C7-49F9-8661-28613942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7784C-9882-4C00-A4E3-73700AB5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6B81C8-4686-4983-ACC3-C8AFAFDB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0A5A8D-8A50-40AB-BFE6-B4E9A0B3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F0CB88-F5B1-42ED-90D9-AC966A43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012135-3165-462C-B074-1FB8EA69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5C46DC-B9B1-429B-9085-8BB7EB40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C3ED92-7F65-4A81-979C-8641053F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363A89-EDF6-4E1A-9D4F-3D1E2DEC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3D79-DC6C-42E8-BE5A-0AECD752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875B41-778D-42FE-AE4C-D96B9D14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68C20C-F80A-428E-A06A-8CF523ED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54236E-1B2C-4AD9-BA00-E6091740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FDD038-ADCA-442A-865A-93CAD483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C2E6D1-3636-4060-8D4A-ACEF18F0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A38152-965F-43B5-9CC5-A48499E8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5EF304-96B6-4C15-A37D-9A378873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6BF5BE-9A61-4E29-95C0-F2E662DF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816928-F90F-4197-9B92-FB53E7FE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99AAE1-DA91-4326-9455-6EFCE225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157A-46C7-45EA-A5CA-08C7F413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7C083C-8770-405C-9CEE-3BDF84F3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088742-4DCE-4840-9A9B-86EFA179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69FCF6-52F7-49B2-83D7-1B0B6455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236C62-4CF4-44C4-8113-0675E782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8330BD-E42B-4682-875C-F993A57F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EA4288-D391-4D40-8F1D-D19295DC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D04ABB-54D9-4964-8066-CB24F171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A9E4-0848-46B1-BD9C-7D4B1F31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94B8-6404-435F-96DF-795E9E9F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AF03-919A-44EE-817A-A2E881B6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A0D0-7CB9-4E69-97BB-EDEDCCC3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61E1-A3BF-483A-8F3C-AC04541D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BEF4-12AA-4D89-91F4-D8604622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1D53-8ACF-4ED1-BE1D-0C963022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2611-2777-4BD3-BE9D-8E373495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304D-CD9E-4BF4-9F4F-8F7A4FD5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2CA9-ABD4-4DC3-BCD5-BA73DF0F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04C8-CEB8-4E2E-B91C-19E67582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1A55-4DA1-4342-A2C6-EAC37134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CFE7-B8BF-4916-BC5B-BA55278F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0B0F-2DDB-4FE7-B982-1F93AA52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DCF7-B2CF-4B34-B74A-01957C58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847F0-357B-4EC0-B705-BBB29249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3D3C3-87E9-427F-AA42-E58048E1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4A1EE-6207-4D8C-B640-52E592A1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383F5-4906-4ACA-810B-C40408B9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C6CC3-20E6-4C61-801A-E4B7F698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16486-5630-4C53-9894-87076B9A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87D55-DD85-429E-9D7C-10C315B2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3C139-A968-4B2B-8287-089E079A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ED76A-FE4D-4EA5-A920-A80CEC47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0270F-7902-4DCF-955A-B28B0843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779F4-2568-4643-9133-BA4AE0F2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63A22-6D13-4FF0-AE09-5CD587DB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EE37C-E756-4CFB-9337-24C0D4AE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377BD-58F8-4B45-9D41-683C7483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EF5EC-65FC-4771-825B-0DB28CF4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D3269-C809-4C26-85DF-B2119690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89DF4-C0FC-4FC3-BF31-C269A239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8BF39-7986-4237-A1F0-F5864EBB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4106B-F171-4B71-8A88-756DA810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EDEDF-B0FB-42D6-AB80-EA2A98C6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1961C-A29F-419D-AB25-379303CF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8DB23-56F0-46DC-B1A9-1F5987CB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E623E-2888-486C-A0C6-C3BBDC44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BB27C-5A97-46FE-A6EE-545282D5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9BEFC-DE7D-4D19-8C56-DB91D902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E7ABB-A6B0-4EF1-8315-84A5EAAF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E0C38-86C1-4048-B2F6-0A46088D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n 1" descr=""/>
          <p:cNvPicPr/>
          <p:nvPr/>
        </p:nvPicPr>
        <p:blipFill>
          <a:blip r:embed="rId2"/>
          <a:stretch/>
        </p:blipFill>
        <p:spPr>
          <a:xfrm>
            <a:off x="0" y="0"/>
            <a:ext cx="9171000" cy="519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6CCC-7852-4BCA-8D81-263A5F2AB66B}" type="datetime">
              <a:rPr b="0" lang="es-CL" sz="9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8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B734-1E64-4BA4-87DB-3268A6624C80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9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17A7-1CDE-423F-9048-B48A11618185}" type="datetime">
              <a:rPr b="0" lang="es-CL" sz="9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1C37-3F63-47EE-AF6A-65B993C072EF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8CAF-72D4-48A7-9F29-597B5BEA8320}" type="datetime">
              <a:rPr b="0" lang="es-CL" sz="9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2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F517-E6F1-44B5-8F32-BF227A87EFFC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5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D7A2-15E2-4B0B-8654-97DA7B1013E6}" type="datetime">
              <a:rPr b="0" lang="es-CL" sz="9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6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7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201A-EC0B-46E3-902A-019DB3FB8017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2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0062-62DA-4465-BEC4-1ED11FB31AED}" type="datetime">
              <a:rPr b="0" lang="es-CL" sz="9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8E3D-89DA-4E40-977F-E19D1412512B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3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ECCF-109F-4677-9409-D56B629ACA37}" type="datetime">
              <a:rPr b="0" lang="es-CL" sz="9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27EA-957B-41F3-9D0D-1ED1A943155A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32DE-7847-44EE-B145-A460DA607D33}" type="datetime">
              <a:rPr b="0" lang="es-CL" sz="9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F483-1754-4927-AE01-B5143AB9ADE1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7DC2-B4B0-429C-90A9-504C11D09572}" type="datetime">
              <a:rPr b="0" lang="es-CL" sz="9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DB66-565F-4615-9390-6E3E134B8036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4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4426-A0CE-4843-B16D-D1DEE1F67CD2}" type="datetime">
              <a:rPr b="0" lang="es-CL" sz="9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4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4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576F-6420-48C9-8D93-7C233032E6FC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4634-3582-448C-9F46-89CA4DD1F8AE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Imagen 7" descr=""/>
          <p:cNvPicPr/>
          <p:nvPr/>
        </p:nvPicPr>
        <p:blipFill>
          <a:blip r:embed="rId2"/>
          <a:stretch/>
        </p:blipFill>
        <p:spPr>
          <a:xfrm>
            <a:off x="0" y="4772160"/>
            <a:ext cx="9174240" cy="390240"/>
          </a:xfrm>
          <a:prstGeom prst="rect">
            <a:avLst/>
          </a:prstGeom>
          <a:ln w="0">
            <a:noFill/>
          </a:ln>
        </p:spPr>
      </p:pic>
      <p:pic>
        <p:nvPicPr>
          <p:cNvPr id="41" name="Imagen 10" descr=""/>
          <p:cNvPicPr/>
          <p:nvPr/>
        </p:nvPicPr>
        <p:blipFill>
          <a:blip r:embed="rId3"/>
          <a:stretch/>
        </p:blipFill>
        <p:spPr>
          <a:xfrm>
            <a:off x="7201080" y="165240"/>
            <a:ext cx="1564920" cy="75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n 7" descr=""/>
          <p:cNvPicPr/>
          <p:nvPr/>
        </p:nvPicPr>
        <p:blipFill>
          <a:blip r:embed="rId2"/>
          <a:stretch/>
        </p:blipFill>
        <p:spPr>
          <a:xfrm>
            <a:off x="-30240" y="4772160"/>
            <a:ext cx="9215640" cy="390240"/>
          </a:xfrm>
          <a:prstGeom prst="rect">
            <a:avLst/>
          </a:prstGeom>
          <a:ln w="0">
            <a:noFill/>
          </a:ln>
        </p:spPr>
      </p:pic>
      <p:sp>
        <p:nvSpPr>
          <p:cNvPr id="79" name="6 CuadroTexto"/>
          <p:cNvSpPr/>
          <p:nvPr/>
        </p:nvSpPr>
        <p:spPr>
          <a:xfrm>
            <a:off x="255600" y="4433760"/>
            <a:ext cx="50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Gotham Medium"/>
                <a:ea typeface="Gotham Medium"/>
              </a:rPr>
              <a:t>Casa Central</a:t>
            </a:r>
            <a:r>
              <a:rPr b="0" lang="es-CL" sz="800" spc="-1" strike="noStrike">
                <a:solidFill>
                  <a:srgbClr val="000000"/>
                </a:solidFill>
                <a:latin typeface="Gotham Book"/>
                <a:ea typeface="Gotham Book"/>
              </a:rPr>
              <a:t>: Toesca 1783 </a:t>
            </a:r>
            <a:r>
              <a:rPr b="0" lang="es-CL" sz="800" spc="-1" strike="noStrike">
                <a:solidFill>
                  <a:srgbClr val="000000"/>
                </a:solidFill>
                <a:latin typeface="Gotham Medium"/>
                <a:ea typeface="Gotham Medium"/>
              </a:rPr>
              <a:t>| Mesa Central: </a:t>
            </a:r>
            <a:r>
              <a:rPr b="0" lang="es-CL" sz="800" spc="-1" strike="noStrike">
                <a:solidFill>
                  <a:srgbClr val="000000"/>
                </a:solidFill>
                <a:latin typeface="Gotham Book"/>
                <a:ea typeface="Gotham Book"/>
              </a:rPr>
              <a:t>2 2582 6000</a:t>
            </a:r>
            <a:br>
              <a:rPr sz="800"/>
            </a:br>
            <a:r>
              <a:rPr b="0" lang="es-CL" sz="800" spc="-1" strike="noStrike">
                <a:solidFill>
                  <a:srgbClr val="000000"/>
                </a:solidFill>
                <a:latin typeface="Gotham Medium"/>
                <a:ea typeface="Gotham Medium"/>
              </a:rPr>
              <a:t>La Serena</a:t>
            </a:r>
            <a:r>
              <a:rPr b="0" lang="es-CL" sz="800" spc="-1" strike="noStrike">
                <a:solidFill>
                  <a:srgbClr val="000000"/>
                </a:solidFill>
                <a:latin typeface="Gotham Book"/>
                <a:ea typeface="Gotham Book"/>
              </a:rPr>
              <a:t>: Av. Francisco de Aguirre 0405</a:t>
            </a:r>
            <a:r>
              <a:rPr b="0" lang="es-CL" sz="800" spc="-1" strike="noStrike">
                <a:solidFill>
                  <a:srgbClr val="000000"/>
                </a:solidFill>
                <a:latin typeface="Gotham Medium"/>
                <a:ea typeface="Gotham Medium"/>
              </a:rPr>
              <a:t> | Mesa Central</a:t>
            </a:r>
            <a:r>
              <a:rPr b="0" lang="es-CL" sz="800" spc="-1" strike="noStrike">
                <a:solidFill>
                  <a:srgbClr val="000000"/>
                </a:solidFill>
                <a:latin typeface="Gotham Book"/>
                <a:ea typeface="Gotham Book"/>
              </a:rPr>
              <a:t>: 51 247 915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Imagen 10" descr=""/>
          <p:cNvPicPr/>
          <p:nvPr/>
        </p:nvPicPr>
        <p:blipFill>
          <a:blip r:embed="rId3"/>
          <a:stretch/>
        </p:blipFill>
        <p:spPr>
          <a:xfrm>
            <a:off x="7201080" y="165240"/>
            <a:ext cx="1564920" cy="75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4EFF-8E03-4552-9128-60EBE8E41EFD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Imagen 7" descr=""/>
          <p:cNvPicPr/>
          <p:nvPr/>
        </p:nvPicPr>
        <p:blipFill>
          <a:blip r:embed="rId2"/>
          <a:stretch/>
        </p:blipFill>
        <p:spPr>
          <a:xfrm>
            <a:off x="1440" y="1440"/>
            <a:ext cx="9168120" cy="519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s-C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C4864165-610E-4E34-B7F6-A24D4C6FEE74}" type="datetime">
              <a:rPr b="0" lang="es-CL" sz="9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28F57D0-00C4-4C7C-8605-1C2DE24D0533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Imagen 7" descr=""/>
          <p:cNvPicPr/>
          <p:nvPr/>
        </p:nvPicPr>
        <p:blipFill>
          <a:blip r:embed="rId2"/>
          <a:stretch/>
        </p:blipFill>
        <p:spPr>
          <a:xfrm>
            <a:off x="0" y="4772160"/>
            <a:ext cx="9174240" cy="390240"/>
          </a:xfrm>
          <a:prstGeom prst="rect">
            <a:avLst/>
          </a:prstGeom>
          <a:ln w="0">
            <a:noFill/>
          </a:ln>
        </p:spPr>
      </p:pic>
      <p:pic>
        <p:nvPicPr>
          <p:cNvPr id="199" name="Imagen 10" descr=""/>
          <p:cNvPicPr/>
          <p:nvPr/>
        </p:nvPicPr>
        <p:blipFill>
          <a:blip r:embed="rId3"/>
          <a:stretch/>
        </p:blipFill>
        <p:spPr>
          <a:xfrm>
            <a:off x="7201080" y="165240"/>
            <a:ext cx="1564920" cy="75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Imagen 7" descr=""/>
          <p:cNvPicPr/>
          <p:nvPr/>
        </p:nvPicPr>
        <p:blipFill>
          <a:blip r:embed="rId2"/>
          <a:stretch/>
        </p:blipFill>
        <p:spPr>
          <a:xfrm>
            <a:off x="1440" y="1440"/>
            <a:ext cx="9168120" cy="519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D594-9983-441D-8D55-2D093981E847}" type="datetime">
              <a:rPr b="0" lang="es-CL" sz="9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B9C1-884C-497E-9916-7D09B906F44C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F3FC-5DC5-455C-9FF7-81937B75F7FC}" type="datetime">
              <a:rPr b="0" lang="es-CL" sz="9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C5CC-FE6A-4630-AC46-DFB6DC4D0F20}" type="slidenum">
              <a:rPr b="0" lang="es-ES_trad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96600" y="4554000"/>
            <a:ext cx="7886520" cy="7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000" spc="-1" strike="noStrike">
              <a:solidFill>
                <a:srgbClr val="000000"/>
              </a:solidFill>
              <a:latin typeface="Gotham Medium"/>
              <a:ea typeface="Gotham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9960" y="595080"/>
            <a:ext cx="83152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Gotham Medium"/>
              </a:rPr>
              <a:t>Títu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399960" y="1250640"/>
            <a:ext cx="8315280" cy="33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Tex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22280" y="644040"/>
            <a:ext cx="829296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Gotham Medium"/>
              </a:rPr>
              <a:t>Títu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22280" y="1215720"/>
            <a:ext cx="8292960" cy="33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CuadroTexto 1"/>
          <p:cNvSpPr/>
          <p:nvPr/>
        </p:nvSpPr>
        <p:spPr>
          <a:xfrm>
            <a:off x="4029120" y="2509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Imagen 1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51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2T14:35:21Z</dcterms:created>
  <dc:creator>Usuario de Microsoft Office</dc:creator>
  <dc:description/>
  <dc:language>en-US</dc:language>
  <cp:lastModifiedBy>Patricia Barrios Molina</cp:lastModifiedBy>
  <dcterms:modified xsi:type="dcterms:W3CDTF">2025-03-28T15:41:17Z</dcterms:modified>
  <cp:revision>34</cp:revision>
  <dc:subject/>
  <dc:title>Presentación de PowerPoint</dc:title>
</cp:coreProperties>
</file>